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35.wmf" ContentType="image/x-wmf"/>
  <Override PartName="/ppt/media/image8.jpeg" ContentType="image/jpeg"/>
  <Override PartName="/ppt/media/image13.wmf" ContentType="image/x-wmf"/>
  <Override PartName="/ppt/media/image10.jpeg" ContentType="image/jpeg"/>
  <Override PartName="/ppt/media/image29.wmf" ContentType="image/x-wmf"/>
  <Override PartName="/ppt/media/image11.png" ContentType="image/png"/>
  <Override PartName="/ppt/media/image31.wmf" ContentType="image/x-wmf"/>
  <Override PartName="/ppt/media/image6.wmf" ContentType="image/x-wmf"/>
  <Override PartName="/ppt/media/image36.wmf" ContentType="image/x-wmf"/>
  <Override PartName="/ppt/media/image12.jpeg" ContentType="image/jpeg"/>
  <Override PartName="/ppt/media/image34.jpeg" ContentType="image/jpeg"/>
  <Override PartName="/ppt/media/image38.wmf" ContentType="image/x-wmf"/>
  <Override PartName="/ppt/media/image30.jpeg" ContentType="image/jpeg"/>
  <Override PartName="/ppt/media/image37.wmf" ContentType="image/x-wmf"/>
  <Override PartName="/ppt/media/image7.wmf" ContentType="image/x-wmf"/>
  <Override PartName="/ppt/media/image20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3F84-1F4E-44F3-BC2C-0D1149383392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FC4-6699-42E2-BAA4-ACC2C743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4E51-91EC-47B4-902B-7F442186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5C61-2049-4F99-B322-7D677BEA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A0A-DD90-4B7A-9382-1A255962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CC93-6872-4DF7-B8C6-DC50F3A2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8360-D307-4693-86BB-5D685170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BC30-FC69-46AC-9A97-6449CDDF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4DA7-5A5B-4151-878E-3099A4F7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A00D-98A1-4ED9-A003-E7C07F0F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B140-B298-41E3-B52F-CF9CE9BF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6DBC-E44A-4968-BD15-E4180F40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75B9-2DD4-4CB7-BF28-88B190EB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2AB5-2678-4248-9A48-8AED16E0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CB89-9A7D-4B58-95D1-D11676F1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F343-4C69-4633-950F-C8506413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6DB0-0349-489B-9293-56C7B4CC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3BFF-9C8F-4B45-94AB-2214E706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516C0-63C5-45D5-B5BB-FEC4FF5A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499CF-94B7-4268-A034-B7567377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39E1B-76F6-4EC1-8226-61F95372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624BE-D425-466B-BF33-DC2ED7FF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A4BB5-C00D-4ACC-A111-C6DF8B32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53B-BE8C-41C7-93F1-3174C0B4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8D063-81F1-4F38-86BD-7FCA878B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02DEA-0E20-4CF6-8B22-B7BC47BF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CC8FB-A3D7-4D0A-896F-D5CD8BE7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C293F-F942-4FAB-9C7A-5D4DDB48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43397-EC53-4B2A-9BB3-8D67000C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4DA87-DE31-43BC-96B2-227AAF3E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A023D-5C43-4C17-87DF-DD74D6A3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4E935-4CD4-4FDC-9FA3-9CC7D19E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AB19F-3E4C-423B-808F-C06D2D33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586DB-A718-43AA-9EEB-6C39196F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76F-14BE-44E2-AC40-3A84AA4D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8CFF8-0DC3-4661-B7DD-7750BD29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BA358-0DBF-4291-9BA7-0BCFFC14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9F02E-DE64-4228-A20E-EDD66B87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84F64-52D6-4660-802E-0EFD700D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CCDC2-615A-477C-BF02-CD6F334D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14524-0776-4D46-8ACC-1631ABDB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2E9B9-71BB-406B-A41F-A74BAE29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A4F7E-0610-45BA-894A-91D55F7F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450CB-193E-4D34-99F1-0FC44716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E5443-B34D-4B0F-9244-E6C1023A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D73-C7FD-4A7A-A523-F86755C0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2F2A6-D558-48DC-9083-7D859D13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9963B-82D1-4804-81E5-912C0B5D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A7F50-45D0-485E-A6F7-D432743C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BB432-847B-4F2E-9C65-421F93CD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77DBB-F4E0-4B58-8908-5EDD70B7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FC8DE-DF00-47ED-BE13-27E91066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4AE60-EC1F-4702-B43D-557FE0F8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6D71C-312F-4F81-81A2-059FC011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F9773-7C40-49A9-B0F6-4750A4CE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6B895-C05B-4B32-9514-1FEC140C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0F4D-BB14-4B5F-922B-42E12435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693EB-EE53-43DB-9230-A2FD76ED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AA3-4AD0-42B5-AEC7-DD282495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891-33AE-4AF0-889D-2A7CD254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982E-E55C-4733-B8F1-7654F3B5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C00C-35EA-4C59-B4E1-CE5A84AFD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1667-71F4-4246-89F8-8BA732334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35DC-509B-444F-93A0-0783067E0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1F28-88D3-462D-82D2-393E4312F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9D01-19C3-42FF-85F9-9AC2AD5454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79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0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87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29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908000" y="115920"/>
            <a:ext cx="7093080" cy="40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PUNO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0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60720" y="71280"/>
            <a:ext cx="6875280" cy="76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340000" y="-2700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10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n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17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6923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CAO POR PRINCIPALES DEPARTAMENTOS 1990-2003 (Miles T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80" y="836640"/>
            <a:ext cx="9142920" cy="6023160"/>
            <a:chOff x="1080" y="836640"/>
            <a:chExt cx="9142920" cy="6023160"/>
          </a:xfrm>
        </p:grpSpPr>
        <p:graphicFrame>
          <p:nvGraphicFramePr>
            <p:cNvPr id="324" name=""/>
            <p:cNvGraphicFramePr/>
            <p:nvPr/>
          </p:nvGraphicFramePr>
          <p:xfrm>
            <a:off x="206280" y="836640"/>
            <a:ext cx="8937720" cy="577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6280" y="836640"/>
                      <a:ext cx="8937720" cy="577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"/>
            <p:cNvSpPr/>
            <p:nvPr/>
          </p:nvSpPr>
          <p:spPr>
            <a:xfrm>
              <a:off x="1080" y="6400800"/>
              <a:ext cx="217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1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3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9" dur="500"/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219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Pu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ranos (Quinua, Cañihua, Hab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lanta Medici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rutas y Cítric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nes y Derivad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jidos Artesa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na de Ovino y Fibra de Alpa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8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2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4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8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2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500"/>
                            </p:stCondLst>
                            <p:childTnLst>
                              <p:par>
                                <p:cTn id="4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0" dur="5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8600" y="2997360"/>
            <a:ext cx="8915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-5400" y="634032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40000" y="-10044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ZINC POR DEPARTAMENTOS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907920"/>
          <a:ext cx="914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-5400" y="643716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3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LATA POR DEPARTAMENTOS</a:t>
            </a:r>
            <a:br>
              <a:rPr sz="1200"/>
            </a:b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1990-2004*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40" y="907920"/>
          <a:ext cx="914112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907920"/>
                    <a:ext cx="914112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318360"/>
            <a:ext cx="31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547640" y="44280"/>
            <a:ext cx="7596360" cy="93348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VENTA DE BOLETOS TURISTICOS A VISITANTES NACIONALES Y EXTRANJEROS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2002 – jul 2004 (N° DE BOLETO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1080" y="1047600"/>
            <a:ext cx="8832240" cy="5709960"/>
            <a:chOff x="91080" y="1047600"/>
            <a:chExt cx="8832240" cy="5709960"/>
          </a:xfrm>
        </p:grpSpPr>
        <p:grpSp>
          <p:nvGrpSpPr>
            <p:cNvPr id="376" name=""/>
            <p:cNvGrpSpPr/>
            <p:nvPr/>
          </p:nvGrpSpPr>
          <p:grpSpPr>
            <a:xfrm>
              <a:off x="91080" y="1047600"/>
              <a:ext cx="8832240" cy="5709960"/>
              <a:chOff x="91080" y="1047600"/>
              <a:chExt cx="8832240" cy="5709960"/>
            </a:xfrm>
          </p:grpSpPr>
          <p:sp>
            <p:nvSpPr>
              <p:cNvPr id="377" name=""/>
              <p:cNvSpPr/>
              <p:nvPr/>
            </p:nvSpPr>
            <p:spPr>
              <a:xfrm>
                <a:off x="91080" y="6237360"/>
                <a:ext cx="225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uente: OFEC-CUSC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laboración: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inform@cció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78" name=""/>
              <p:cNvGraphicFramePr/>
              <p:nvPr/>
            </p:nvGraphicFramePr>
            <p:xfrm>
              <a:off x="162000" y="1047600"/>
              <a:ext cx="8761320" cy="511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7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2000" y="1047600"/>
                        <a:ext cx="8761320" cy="511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80" name=""/>
            <p:cNvSpPr/>
            <p:nvPr/>
          </p:nvSpPr>
          <p:spPr>
            <a:xfrm>
              <a:off x="1733400" y="1736640"/>
              <a:ext cx="67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02                                           2003                          200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225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6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235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239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979640" y="44280"/>
            <a:ext cx="7164360" cy="7750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-7668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PRODUCCION DE PETROLEO POR ZONA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1975 – 2004* (Miles de barril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340320"/>
            <a:ext cx="32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* Datos al mes de julio del 200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981000"/>
          <a:ext cx="9220320" cy="523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1000"/>
                    <a:ext cx="922032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901880" y="907920"/>
            <a:ext cx="985680" cy="762120"/>
          </a:xfrm>
          <a:prstGeom prst="downArrowCallout">
            <a:avLst>
              <a:gd name="adj1" fmla="val 32336"/>
              <a:gd name="adj2" fmla="val 32333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019240"/>
            <a:ext cx="1008000" cy="833400"/>
          </a:xfrm>
          <a:prstGeom prst="downArrowCallout">
            <a:avLst>
              <a:gd name="adj1" fmla="val 30240"/>
              <a:gd name="adj2" fmla="val 3023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64440" y="2612880"/>
            <a:ext cx="979560" cy="74484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3968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62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1127160"/>
          <a:ext cx="9163080" cy="521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7160"/>
                    <a:ext cx="91630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-1800" y="650880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050560" y="-27360"/>
            <a:ext cx="70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ENERGIA ELECTRICA A NIVEL NACIONAL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1985-2004* (Miles GWH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68600" y="2306520"/>
            <a:ext cx="1066680" cy="762120"/>
          </a:xfrm>
          <a:prstGeom prst="downArrowCallout">
            <a:avLst>
              <a:gd name="adj1" fmla="val 34994"/>
              <a:gd name="adj2" fmla="val 34991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30840" y="1268280"/>
            <a:ext cx="1067040" cy="762120"/>
          </a:xfrm>
          <a:prstGeom prst="downArrowCallout">
            <a:avLst>
              <a:gd name="adj1" fmla="val 35005"/>
              <a:gd name="adj2" fmla="val 35002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15:46:07Z</dcterms:modified>
  <cp:revision>1157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2352501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